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D110-14F8-476D-ADE7-567B1EE0D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66C9-394E-41A0-B994-EC3E104B0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5364-2F37-4B62-9CD1-B71DCA7CF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B765-E1EA-48AA-BBB6-53EA6A69B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09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30C4-72E0-4D56-84D7-6D3CAD806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15F2-C1D0-4F06-B055-567616C8E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672B-39B3-4E00-8E73-7DD726E55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1DEB-5ED4-4CCF-A08D-3A19023CB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9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DB49-174B-480A-9541-58354DEF6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F848-ECD1-4932-876B-18999ED51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59C0-73D7-42A4-A4BD-3A63C0DE0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70CF-7D9B-40CB-A71A-3C2FB3DDD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343080" indent="-343080">
              <a:spcBef>
                <a:spcPts val="499"/>
              </a:spcBef>
              <a:buClr>
                <a:srgbClr val="0033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343080" indent="-343080">
              <a:spcBef>
                <a:spcPts val="499"/>
              </a:spcBef>
              <a:buClr>
                <a:srgbClr val="003300"/>
              </a:buClr>
              <a:buSzPct val="9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343080" indent="-34308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343080" indent="-34308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520" y="228240"/>
            <a:ext cx="4971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3A5-2060-4F52-A645-A85C9071DEDD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47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56000" y="6316560"/>
            <a:ext cx="35924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4665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124000" y="6308640"/>
            <a:ext cx="79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324480"/>
            <a:ext cx="2667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Июнь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14600" y="632448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Методика разработки программ социально-экономического развития муниципальных образов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6172200"/>
            <a:ext cx="746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969840" cy="930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92200"/>
            <a:ext cx="1081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300"/>
              </a:spcBef>
              <a:buClr>
                <a:srgbClr val="003300"/>
              </a:buClr>
              <a:buSzPct val="9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249"/>
              </a:spcBef>
              <a:buClr>
                <a:srgbClr val="003300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249"/>
              </a:spcBef>
              <a:buClr>
                <a:srgbClr val="003300"/>
              </a:buClr>
              <a:buSzPct val="6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0" lang="en-US" sz="3400" spc="-1" strike="noStrike">
                <a:solidFill>
                  <a:srgbClr val="000066"/>
                </a:solidFill>
                <a:latin typeface="Century Gothic"/>
              </a:rPr>
              <a:t>Основные этапы разработки и параметры Комплексной программы социально-экономического развития МО «Каргасокский район»</a:t>
            </a:r>
            <a:br>
              <a:rPr sz="3400"/>
            </a:br>
            <a:r>
              <a:rPr b="0" lang="en-US" sz="3400" spc="-1" strike="noStrike">
                <a:solidFill>
                  <a:srgbClr val="000066"/>
                </a:solidFill>
                <a:latin typeface="Century Gothic"/>
              </a:rPr>
              <a:t>на 2007-2010 г.г.</a:t>
            </a:r>
            <a:endParaRPr b="1" lang="en-US" sz="3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324480"/>
            <a:ext cx="2667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Июнь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33360"/>
            <a:ext cx="9144000" cy="568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 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вития Каргасок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 период до 20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еспечение  высокого  качества жизни населения Каргасокского района за  счет вовлечения в  сферу использования всех  видов природных ресурсов территории,  развития человеческого потенциала, повышения общей эффективности функционирования объектов социальной  сферы  и 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C3EA-C2AA-4DB3-87E4-D53177F2F0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0" y="1449360"/>
            <a:ext cx="9143640" cy="3634920"/>
            <a:chOff x="0" y="1449360"/>
            <a:chExt cx="9143640" cy="3634920"/>
          </a:xfrm>
        </p:grpSpPr>
        <p:grpSp>
          <p:nvGrpSpPr>
            <p:cNvPr id="849" name=""/>
            <p:cNvGrpSpPr/>
            <p:nvPr/>
          </p:nvGrpSpPr>
          <p:grpSpPr>
            <a:xfrm>
              <a:off x="526680" y="1449360"/>
              <a:ext cx="8038440" cy="454320"/>
              <a:chOff x="526680" y="1449360"/>
              <a:chExt cx="8038440" cy="454320"/>
            </a:xfrm>
          </p:grpSpPr>
          <p:sp>
            <p:nvSpPr>
              <p:cNvPr id="850" name=""/>
              <p:cNvSpPr/>
              <p:nvPr/>
            </p:nvSpPr>
            <p:spPr>
              <a:xfrm>
                <a:off x="526680" y="1449360"/>
                <a:ext cx="8038440" cy="454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СТРАТЕГИЧЕСКИЕ НАПРАВЛЕНИЯ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РАЗВИТ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2030040"/>
              <a:ext cx="9143640" cy="3054240"/>
              <a:chOff x="0" y="2030040"/>
              <a:chExt cx="9143640" cy="305424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771480" y="2030040"/>
                <a:ext cx="7712640" cy="504720"/>
                <a:chOff x="771480" y="2030040"/>
                <a:chExt cx="7712640" cy="504720"/>
              </a:xfrm>
            </p:grpSpPr>
            <p:sp>
              <p:nvSpPr>
                <p:cNvPr id="853" name=""/>
                <p:cNvSpPr/>
                <p:nvPr/>
              </p:nvSpPr>
              <p:spPr>
                <a:xfrm rot="5400000">
                  <a:off x="781200" y="2020320"/>
                  <a:ext cx="504720" cy="524160"/>
                </a:xfrm>
                <a:custGeom>
                  <a:avLst/>
                  <a:gdLst>
                    <a:gd name="textAreaLeft" fmla="*/ 78840 w 504720"/>
                    <a:gd name="textAreaRight" fmla="*/ 441720 w 504720"/>
                    <a:gd name="textAreaTop" fmla="*/ 131040 h 524160"/>
                    <a:gd name="textAreaBottom" fmla="*/ 393120 h 52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5400000">
                  <a:off x="7969680" y="2020320"/>
                  <a:ext cx="504720" cy="524160"/>
                </a:xfrm>
                <a:custGeom>
                  <a:avLst/>
                  <a:gdLst>
                    <a:gd name="textAreaLeft" fmla="*/ 78840 w 504720"/>
                    <a:gd name="textAreaRight" fmla="*/ 441720 w 504720"/>
                    <a:gd name="textAreaTop" fmla="*/ 131040 h 524160"/>
                    <a:gd name="textAreaBottom" fmla="*/ 393120 h 52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400000">
                  <a:off x="4361400" y="2020320"/>
                  <a:ext cx="504720" cy="524160"/>
                </a:xfrm>
                <a:custGeom>
                  <a:avLst/>
                  <a:gdLst>
                    <a:gd name="textAreaLeft" fmla="*/ 78840 w 504720"/>
                    <a:gd name="textAreaRight" fmla="*/ 441720 w 504720"/>
                    <a:gd name="textAreaTop" fmla="*/ 131040 h 524160"/>
                    <a:gd name="textAreaBottom" fmla="*/ 393120 h 52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400000">
                  <a:off x="2651760" y="2020320"/>
                  <a:ext cx="504720" cy="524160"/>
                </a:xfrm>
                <a:custGeom>
                  <a:avLst/>
                  <a:gdLst>
                    <a:gd name="textAreaLeft" fmla="*/ 78840 w 504720"/>
                    <a:gd name="textAreaRight" fmla="*/ 441720 w 504720"/>
                    <a:gd name="textAreaTop" fmla="*/ 131040 h 524160"/>
                    <a:gd name="textAreaBottom" fmla="*/ 393120 h 52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400000">
                  <a:off x="6300000" y="1991160"/>
                  <a:ext cx="504720" cy="582480"/>
                </a:xfrm>
                <a:custGeom>
                  <a:avLst/>
                  <a:gdLst>
                    <a:gd name="textAreaLeft" fmla="*/ 78840 w 504720"/>
                    <a:gd name="textAreaRight" fmla="*/ 441720 w 504720"/>
                    <a:gd name="textAreaTop" fmla="*/ 145440 h 582480"/>
                    <a:gd name="textAreaBottom" fmla="*/ 437040 h 58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0" y="2661120"/>
                <a:ext cx="9143640" cy="2423160"/>
                <a:chOff x="0" y="2661120"/>
                <a:chExt cx="9143640" cy="2423160"/>
              </a:xfrm>
            </p:grpSpPr>
            <p:grpSp>
              <p:nvGrpSpPr>
                <p:cNvPr id="859" name=""/>
                <p:cNvGrpSpPr/>
                <p:nvPr/>
              </p:nvGrpSpPr>
              <p:grpSpPr>
                <a:xfrm>
                  <a:off x="1980360" y="2661120"/>
                  <a:ext cx="5387400" cy="2423160"/>
                  <a:chOff x="1980360" y="2661120"/>
                  <a:chExt cx="5387400" cy="242316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980360" y="2661120"/>
                    <a:ext cx="1718280" cy="2423160"/>
                  </a:xfrm>
                  <a:prstGeom prst="foldedCorner">
                    <a:avLst>
                      <a:gd name="adj" fmla="val 12500"/>
                    </a:avLst>
                  </a:pr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Развитие производ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ственного потенциала жителей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3798720" y="2661120"/>
                    <a:ext cx="1734480" cy="2423160"/>
                  </a:xfrm>
                  <a:prstGeom prst="foldedCorner">
                    <a:avLst>
                      <a:gd name="adj" fmla="val 12500"/>
                    </a:avLst>
                  </a:pr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Улучшение условий проживания населен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620680" y="2661120"/>
                    <a:ext cx="1747080" cy="2423160"/>
                  </a:xfrm>
                  <a:prstGeom prst="foldedCorner">
                    <a:avLst>
                      <a:gd name="adj" fmla="val 12500"/>
                    </a:avLst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Изменение социальных условий и образа жизн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>
                  <a:off x="0" y="2661120"/>
                  <a:ext cx="1922040" cy="2423160"/>
                </a:xfrm>
                <a:prstGeom prst="foldedCorner">
                  <a:avLst>
                    <a:gd name="adj" fmla="val 12500"/>
                  </a:avLst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овышение эффектив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ности использования природных ресурсов территор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2040" y="2661120"/>
                  <a:ext cx="1731600" cy="2423160"/>
                </a:xfrm>
                <a:prstGeom prst="foldedCorner">
                  <a:avLst>
                    <a:gd name="adj" fmla="val 12500"/>
                  </a:avLst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Дальнейшее развитие местного самоуправлен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F7A2-28E8-4142-AF9B-2BFF049260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324000" y="1059480"/>
            <a:ext cx="8497800" cy="4477320"/>
            <a:chOff x="324000" y="1059480"/>
            <a:chExt cx="8497800" cy="4477320"/>
          </a:xfrm>
        </p:grpSpPr>
        <p:cxnSp>
          <p:nvCxnSpPr>
            <p:cNvPr id="867" name=""/>
            <p:cNvCxnSpPr>
              <a:stCxn id="868" idx="1"/>
              <a:endCxn id="869" idx="1"/>
            </p:cNvCxnSpPr>
            <p:nvPr/>
          </p:nvCxnSpPr>
          <p:spPr>
            <a:xfrm flipH="1" flipV="1" rot="10800000">
              <a:off x="636840" y="1599840"/>
              <a:ext cx="626040" cy="2096640"/>
            </a:xfrm>
            <a:prstGeom prst="bentConnector3">
              <a:avLst>
                <a:gd name="adj1" fmla="val -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0" name=""/>
            <p:cNvCxnSpPr>
              <a:stCxn id="868" idx="1"/>
              <a:endCxn id="871" idx="1"/>
            </p:cNvCxnSpPr>
            <p:nvPr/>
          </p:nvCxnSpPr>
          <p:spPr>
            <a:xfrm flipH="1" flipV="1" rot="10800000">
              <a:off x="636480" y="1599120"/>
              <a:ext cx="663840" cy="3351240"/>
            </a:xfrm>
            <a:prstGeom prst="bentConnector3">
              <a:avLst>
                <a:gd name="adj1" fmla="val -471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8" name=""/>
            <p:cNvSpPr/>
            <p:nvPr/>
          </p:nvSpPr>
          <p:spPr>
            <a:xfrm>
              <a:off x="636840" y="1059480"/>
              <a:ext cx="8184960" cy="108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5f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. Стратегическое 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вышение эффективности использования природных ресурсов терри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62880" y="3193920"/>
              <a:ext cx="7022520" cy="100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 сотрудничества с предприятиями нефтегазового сектора в рамках социального партнёр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300320" y="4363920"/>
              <a:ext cx="6968520" cy="11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еспечение развития отраслей, основанных на использовании возобновляемых природных ресурс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85200" y="2354040"/>
              <a:ext cx="5087880" cy="502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ОРИТЕТЫ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BFE7-8156-4499-9257-4058281F92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"/>
          <p:cNvSpPr/>
          <p:nvPr/>
        </p:nvSpPr>
        <p:spPr>
          <a:xfrm>
            <a:off x="468360" y="0"/>
            <a:ext cx="4233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-885960" y="2155680"/>
            <a:ext cx="202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Темпы роста рын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-128520" y="2965320"/>
            <a:ext cx="86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из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6200000">
            <a:off x="-186120" y="1315080"/>
            <a:ext cx="99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высо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14800" y="3902040"/>
            <a:ext cx="86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низ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16200" y="3902040"/>
            <a:ext cx="99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высо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8760" y="4149720"/>
            <a:ext cx="4239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Доля рынка по отношению к ближайшем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онкурент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25280" y="4724280"/>
            <a:ext cx="4302360" cy="181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обыча, переработка и транспорт углеводо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отовка и переработка л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ыболов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готовка дико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ищевая промыш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71840" y="2349360"/>
            <a:ext cx="2158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11120" y="2349360"/>
            <a:ext cx="21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571840" y="692280"/>
            <a:ext cx="21589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11120" y="692280"/>
            <a:ext cx="2160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11120" y="692280"/>
            <a:ext cx="43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1120" y="234936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11120" y="400536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1120" y="692280"/>
            <a:ext cx="0" cy="33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730760" y="692280"/>
            <a:ext cx="0" cy="3313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571840" y="692280"/>
            <a:ext cx="0" cy="16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71840" y="2349360"/>
            <a:ext cx="2158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71840" y="4005360"/>
            <a:ext cx="2158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71840" y="2349360"/>
            <a:ext cx="0" cy="165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063960" y="2397240"/>
            <a:ext cx="309600" cy="2952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49720" y="1279440"/>
            <a:ext cx="431640" cy="4129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31960" y="985680"/>
            <a:ext cx="493920" cy="471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631960" y="1515960"/>
            <a:ext cx="493920" cy="4701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81360" y="3632040"/>
            <a:ext cx="309600" cy="2955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200" y="809640"/>
            <a:ext cx="1419120" cy="13525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311640" y="1751040"/>
            <a:ext cx="369720" cy="3524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323800" y="1220760"/>
            <a:ext cx="307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323800" y="1751040"/>
            <a:ext cx="307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3227400" y="22208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835440" y="3338280"/>
            <a:ext cx="144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460520" y="2162160"/>
            <a:ext cx="144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003480" y="145728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25880" y="1927080"/>
            <a:ext cx="185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43280" y="4724280"/>
            <a:ext cx="4392720" cy="1604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уги (включая общественное пит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Художественные промыс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быча, переработка и транспорт торф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770360" y="692280"/>
            <a:ext cx="4316400" cy="3313080"/>
            <a:chOff x="4770360" y="692280"/>
            <a:chExt cx="4316400" cy="3313080"/>
          </a:xfrm>
        </p:grpSpPr>
        <p:sp>
          <p:nvSpPr>
            <p:cNvPr id="911" name=""/>
            <p:cNvSpPr/>
            <p:nvPr/>
          </p:nvSpPr>
          <p:spPr>
            <a:xfrm>
              <a:off x="6928200" y="2348640"/>
              <a:ext cx="2158200" cy="165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770360" y="2348640"/>
              <a:ext cx="2157840" cy="165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28200" y="692280"/>
              <a:ext cx="2158200" cy="165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770360" y="692280"/>
              <a:ext cx="2157840" cy="165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770360" y="692280"/>
              <a:ext cx="43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770360" y="2348640"/>
              <a:ext cx="21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70360" y="4005360"/>
              <a:ext cx="21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70360" y="692280"/>
              <a:ext cx="0" cy="33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086760" y="692280"/>
              <a:ext cx="0" cy="3313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28200" y="692280"/>
              <a:ext cx="0" cy="165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28200" y="2348640"/>
              <a:ext cx="2158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28200" y="4005360"/>
              <a:ext cx="2158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928200" y="2348640"/>
              <a:ext cx="0" cy="165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929280" y="1339920"/>
            <a:ext cx="430200" cy="411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58120" y="1279440"/>
            <a:ext cx="371160" cy="3542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593200" y="809640"/>
            <a:ext cx="369720" cy="35244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66000" y="1398600"/>
            <a:ext cx="492120" cy="4698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66000" y="1868400"/>
            <a:ext cx="492120" cy="4701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29280" y="1927080"/>
            <a:ext cx="308160" cy="2937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791480" y="1927080"/>
            <a:ext cx="431640" cy="411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64280" y="2633760"/>
            <a:ext cx="1171440" cy="10573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066000" y="868320"/>
            <a:ext cx="492120" cy="471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607520" y="3898800"/>
            <a:ext cx="86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низ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308920" y="3898800"/>
            <a:ext cx="99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высо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911480" y="4146480"/>
            <a:ext cx="4239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Доля рынка по отношению к ближайшем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онкурент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488440" y="1773360"/>
            <a:ext cx="492120" cy="4698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59480" y="9360"/>
            <a:ext cx="4233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8695-F79A-4E5C-83D0-84406C4A87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94920" y="1071360"/>
            <a:ext cx="8343360" cy="5102280"/>
            <a:chOff x="394920" y="1071360"/>
            <a:chExt cx="8343360" cy="5102280"/>
          </a:xfrm>
        </p:grpSpPr>
        <p:cxnSp>
          <p:nvCxnSpPr>
            <p:cNvPr id="941" name=""/>
            <p:cNvCxnSpPr>
              <a:stCxn id="942" idx="1"/>
              <a:endCxn id="943" idx="1"/>
            </p:cNvCxnSpPr>
            <p:nvPr/>
          </p:nvCxnSpPr>
          <p:spPr>
            <a:xfrm flipH="1" flipV="1" rot="10800000">
              <a:off x="702360" y="1589760"/>
              <a:ext cx="598680" cy="2026080"/>
            </a:xfrm>
            <a:prstGeom prst="bentConnector3">
              <a:avLst>
                <a:gd name="adj1" fmla="val -513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2" name=""/>
            <p:cNvSpPr/>
            <p:nvPr/>
          </p:nvSpPr>
          <p:spPr>
            <a:xfrm>
              <a:off x="702360" y="1071360"/>
              <a:ext cx="8035920" cy="103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5f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I. Стратегическое 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производственного потенциала жите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00680" y="3131640"/>
              <a:ext cx="689472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днятие уровня деловой активности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238840" y="2415600"/>
              <a:ext cx="4995000" cy="483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ОРИТЕТЫ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16880" y="4259520"/>
              <a:ext cx="6894720" cy="96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народных искусств, ремесел, промыслов и личных подсобных хозяй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6" name=""/>
            <p:cNvCxnSpPr>
              <a:endCxn id="945" idx="1"/>
            </p:cNvCxnSpPr>
            <p:nvPr/>
          </p:nvCxnSpPr>
          <p:spPr>
            <a:xfrm flipH="1" rot="16200000">
              <a:off x="-614880" y="2810880"/>
              <a:ext cx="2942640" cy="92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316880" y="5463720"/>
              <a:ext cx="6894720" cy="709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вышение качества рабочей сил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endCxn id="947" idx="1"/>
            </p:cNvCxnSpPr>
            <p:nvPr/>
          </p:nvCxnSpPr>
          <p:spPr>
            <a:xfrm flipH="1" rot="16200000">
              <a:off x="-1152720" y="3348360"/>
              <a:ext cx="4017960" cy="92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3EE7-7D35-4766-A37C-4BE5F0CB5B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14360" y="1216440"/>
            <a:ext cx="8602920" cy="4452480"/>
            <a:chOff x="414360" y="1216440"/>
            <a:chExt cx="8602920" cy="4452480"/>
          </a:xfrm>
        </p:grpSpPr>
        <p:cxnSp>
          <p:nvCxnSpPr>
            <p:cNvPr id="952" name=""/>
            <p:cNvCxnSpPr>
              <a:stCxn id="953" idx="1"/>
              <a:endCxn id="954" idx="1"/>
            </p:cNvCxnSpPr>
            <p:nvPr/>
          </p:nvCxnSpPr>
          <p:spPr>
            <a:xfrm flipH="1" flipV="1" rot="10800000">
              <a:off x="731160" y="1690560"/>
              <a:ext cx="617400" cy="1765080"/>
            </a:xfrm>
            <a:prstGeom prst="bentConnector3">
              <a:avLst>
                <a:gd name="adj1" fmla="val -51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3" name=""/>
            <p:cNvSpPr/>
            <p:nvPr/>
          </p:nvSpPr>
          <p:spPr>
            <a:xfrm>
              <a:off x="732240" y="1216440"/>
              <a:ext cx="8285040" cy="95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5f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I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. Стратегическое направление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Улучшение бытовых условий проживания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49280" y="3213360"/>
              <a:ext cx="7108560" cy="48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99680" y="2483640"/>
              <a:ext cx="5150160" cy="498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ОРИТЕТЫ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65840" y="4877280"/>
              <a:ext cx="710820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ассовое жилищное строительство в экономически перспективных населённых пункт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 algn="ctr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endCxn id="956" idx="1"/>
            </p:cNvCxnSpPr>
            <p:nvPr/>
          </p:nvCxnSpPr>
          <p:spPr>
            <a:xfrm flipH="1" rot="16200000">
              <a:off x="-900000" y="3006720"/>
              <a:ext cx="3582000" cy="95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endCxn id="959" idx="1"/>
            </p:cNvCxnSpPr>
            <p:nvPr/>
          </p:nvCxnSpPr>
          <p:spPr>
            <a:xfrm flipH="1" rot="16200000">
              <a:off x="-424800" y="2531520"/>
              <a:ext cx="2631600" cy="95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9" name=""/>
            <p:cNvSpPr/>
            <p:nvPr/>
          </p:nvSpPr>
          <p:spPr>
            <a:xfrm>
              <a:off x="1365840" y="3944520"/>
              <a:ext cx="7108200" cy="75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жилищной, транспортной и бытовой инфраструктуры, благоустройство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1332000" y="3068640"/>
            <a:ext cx="712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учение и внедрение энергосберегающих техн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7CCC-1D9C-4699-BF5C-2EA0ACF2E8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414360" y="1216440"/>
            <a:ext cx="8602920" cy="4452480"/>
            <a:chOff x="414360" y="1216440"/>
            <a:chExt cx="8602920" cy="4452480"/>
          </a:xfrm>
        </p:grpSpPr>
        <p:cxnSp>
          <p:nvCxnSpPr>
            <p:cNvPr id="964" name=""/>
            <p:cNvCxnSpPr>
              <a:stCxn id="965" idx="1"/>
              <a:endCxn id="966" idx="1"/>
            </p:cNvCxnSpPr>
            <p:nvPr/>
          </p:nvCxnSpPr>
          <p:spPr>
            <a:xfrm flipH="1" flipV="1" rot="10800000">
              <a:off x="731160" y="1690560"/>
              <a:ext cx="617400" cy="1765080"/>
            </a:xfrm>
            <a:prstGeom prst="bentConnector3">
              <a:avLst>
                <a:gd name="adj1" fmla="val -51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732240" y="1216440"/>
              <a:ext cx="8285040" cy="95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5f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V. Стратегическое 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зменение социальных условий и образа жизн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49280" y="3213360"/>
              <a:ext cx="7108560" cy="48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99680" y="2483640"/>
              <a:ext cx="5150160" cy="498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ОРИТЕТЫ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65840" y="4877280"/>
              <a:ext cx="710820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орьба с пьянством, формирование положительной модели здоровой семь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 algn="ctr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9" name=""/>
            <p:cNvCxnSpPr>
              <a:endCxn id="968" idx="1"/>
            </p:cNvCxnSpPr>
            <p:nvPr/>
          </p:nvCxnSpPr>
          <p:spPr>
            <a:xfrm flipH="1" rot="16200000">
              <a:off x="-900000" y="3006720"/>
              <a:ext cx="3582000" cy="95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0" name=""/>
            <p:cNvCxnSpPr>
              <a:endCxn id="971" idx="1"/>
            </p:cNvCxnSpPr>
            <p:nvPr/>
          </p:nvCxnSpPr>
          <p:spPr>
            <a:xfrm flipH="1" rot="16200000">
              <a:off x="-424800" y="2531520"/>
              <a:ext cx="2631600" cy="95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1365840" y="3944520"/>
              <a:ext cx="7108200" cy="75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71748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вышение  прикладной направленности образовательной системы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332000" y="3068640"/>
            <a:ext cx="712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изация досуга и развитие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3CC3-B6F5-4541-B83E-22F68FEF141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94200" y="1206360"/>
            <a:ext cx="8566560" cy="3767040"/>
            <a:chOff x="394200" y="1206360"/>
            <a:chExt cx="8566560" cy="3767040"/>
          </a:xfrm>
        </p:grpSpPr>
        <p:cxnSp>
          <p:nvCxnSpPr>
            <p:cNvPr id="976" name=""/>
            <p:cNvCxnSpPr>
              <a:stCxn id="977" idx="1"/>
              <a:endCxn id="978" idx="1"/>
            </p:cNvCxnSpPr>
            <p:nvPr/>
          </p:nvCxnSpPr>
          <p:spPr>
            <a:xfrm flipH="1" flipV="1" rot="10800000">
              <a:off x="685080" y="1637640"/>
              <a:ext cx="565920" cy="1843200"/>
            </a:xfrm>
            <a:prstGeom prst="bentConnector3">
              <a:avLst>
                <a:gd name="adj1" fmla="val -513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7" name=""/>
            <p:cNvSpPr/>
            <p:nvPr/>
          </p:nvSpPr>
          <p:spPr>
            <a:xfrm>
              <a:off x="685440" y="1206360"/>
              <a:ext cx="8275320" cy="86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5f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V. Стратегическое 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системы местного самоуправ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50640" y="3022920"/>
              <a:ext cx="698400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вышение социальной и политической активности насе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21840" y="2301840"/>
              <a:ext cx="4719960" cy="45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ОРИТЕТЫ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66120" y="4177440"/>
              <a:ext cx="6968520" cy="79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buClr>
                  <a:srgbClr val="800000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вышение эффективности работы исполнительной вла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1" name=""/>
            <p:cNvCxnSpPr>
              <a:endCxn id="980" idx="1"/>
            </p:cNvCxnSpPr>
            <p:nvPr/>
          </p:nvCxnSpPr>
          <p:spPr>
            <a:xfrm flipH="1" rot="16200000">
              <a:off x="-646200" y="2664360"/>
              <a:ext cx="2952360" cy="871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BB24-AAC0-45C8-9164-12A825F161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Содержание Комплексной программы социально-экономического развития МО «Каргасокский район»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84" name=""/>
          <p:cNvSpPr/>
          <p:nvPr/>
        </p:nvSpPr>
        <p:spPr>
          <a:xfrm>
            <a:off x="152280" y="1143000"/>
            <a:ext cx="899172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1. Стартовые условия и оценка исходной социально–экономической ситуации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2. Интегральная оценка  внутренних и внешних предпосылок развития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3. Стратегические цели, приоритеты и направления социального и экономического развития муниципального района на среднесроч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4. Система программных мероприятий</a:t>
            </a: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5. Ресурсное обеспечение программы </a:t>
            </a: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6. Оценка социально-экономических последствий реализаци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7. Механизмы реализаци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Приложение 1 Организационные мероприятия</a:t>
            </a: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Приложение 2 Инвестиционные проекты территории</a:t>
            </a: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Приложение 3 Объемы и источники 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98C2-1FE4-4A7A-B910-DCCDE7FBC2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Общий объем необходимых финансовых средств для реализации Программы составляет 2 085 608 тыс. рублей в текущих ценах, в том числе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редства федерального бюджета* –208 936   тыс. рублей (прогноз)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редства областного бюджета* –   794 422 тыс. рублей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редства районного бюджета –  866 906 тыс. рублей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- средства бюджетов сельских поселений – 2 000 тыс. рублей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обственные средства предприятий – 158 045 тыс. рублей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кредиты коммерческих банков – 55 300  тыс. рублей,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подлежит ежегодной корректировке, исходя из возможностей бюджета и с учетом изменений в налоговом законодательстве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Стоимостные параметры Комплексной программы социально-экономического развития МО «Каргасокский район»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36C3-EE06-4C61-9814-664388C434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Система стратегического планирования на территории Томской области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378000" y="2604960"/>
            <a:ext cx="2133360" cy="87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040" y="2637000"/>
            <a:ext cx="187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тратегическая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доктрина (видение) развития Томской области до 2020 го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2640" y="28447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" y="3767040"/>
            <a:ext cx="2133360" cy="10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6640" y="3821040"/>
            <a:ext cx="177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7000" y="4006800"/>
            <a:ext cx="194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6440" y="4192560"/>
            <a:ext cx="130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Томской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0" y="4378320"/>
            <a:ext cx="77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на 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7560" y="456876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-2010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45687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" y="512460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0200" y="5268960"/>
            <a:ext cx="145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перативный пл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7400" y="5454720"/>
            <a:ext cx="1210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440" y="5640480"/>
            <a:ext cx="130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Томской об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9400" y="583092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на г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160" y="1927080"/>
            <a:ext cx="232704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9000" y="2062080"/>
            <a:ext cx="175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ЕГИОНАЛЬНЫЙ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78320" y="2604960"/>
            <a:ext cx="2131920" cy="873360"/>
          </a:xfrm>
          <a:prstGeom prst="rect">
            <a:avLst/>
          </a:prstGeom>
          <a:solidFill>
            <a:srgbClr val="99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637000"/>
            <a:ext cx="17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онцепция развития муниципального района, городского округа на 10-1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78320" y="3767040"/>
            <a:ext cx="2131920" cy="1068480"/>
          </a:xfrm>
          <a:prstGeom prst="rect">
            <a:avLst/>
          </a:prstGeom>
          <a:solidFill>
            <a:srgbClr val="99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789360"/>
            <a:ext cx="2087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ограмма социально-экономического развития муниципального района, городского округа на 3-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78320" y="5124600"/>
            <a:ext cx="2131920" cy="1066680"/>
          </a:xfrm>
          <a:prstGeom prst="rect">
            <a:avLst/>
          </a:prstGeom>
          <a:solidFill>
            <a:srgbClr val="99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90880" y="5176800"/>
            <a:ext cx="145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перативный пл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93200" y="5362560"/>
            <a:ext cx="100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мероприят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0760" y="5548320"/>
            <a:ext cx="1192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9440" y="5734080"/>
            <a:ext cx="189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муниципального район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3520" y="5924520"/>
            <a:ext cx="188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городского округа на г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87800" y="1927080"/>
            <a:ext cx="2712960" cy="389160"/>
          </a:xfrm>
          <a:prstGeom prst="rect">
            <a:avLst/>
          </a:prstGeom>
          <a:solidFill>
            <a:srgbClr val="99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70840" y="19810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 МУНИЦИПАЛЬ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8560" y="2127240"/>
            <a:ext cx="217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ЙОНОВ , ГОРОДСКИХ ОКРУГ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6840" y="2604960"/>
            <a:ext cx="2133720" cy="8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0920" y="2637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сновные направления развития городских сельских поселений на 10-1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6840" y="3767040"/>
            <a:ext cx="2133720" cy="10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6160" y="3809880"/>
            <a:ext cx="86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39680" y="4006800"/>
            <a:ext cx="69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4800" y="4192560"/>
            <a:ext cx="162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городских и сельск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84960" y="4378320"/>
            <a:ext cx="81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осел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000" y="4568760"/>
            <a:ext cx="77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на 3-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76840" y="5124600"/>
            <a:ext cx="2133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92640" y="5176800"/>
            <a:ext cx="145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перативный пл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12520" y="5362560"/>
            <a:ext cx="1192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администрац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04800" y="5548320"/>
            <a:ext cx="162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городских и сельск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84960" y="5734080"/>
            <a:ext cx="81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осел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30400" y="592452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на г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80000" y="1927080"/>
            <a:ext cx="232740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91120" y="1982880"/>
            <a:ext cx="157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 ГОРОДСКИХ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99400" y="212868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ЕЛЬСКИХ ПОСЕЛ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06760" y="2924280"/>
            <a:ext cx="776160" cy="193680"/>
            <a:chOff x="2606760" y="2924280"/>
            <a:chExt cx="776160" cy="193680"/>
          </a:xfrm>
        </p:grpSpPr>
        <p:grpSp>
          <p:nvGrpSpPr>
            <p:cNvPr id="140" name=""/>
            <p:cNvGrpSpPr/>
            <p:nvPr/>
          </p:nvGrpSpPr>
          <p:grpSpPr>
            <a:xfrm>
              <a:off x="2606760" y="2924280"/>
              <a:ext cx="776160" cy="193680"/>
              <a:chOff x="2606760" y="2924280"/>
              <a:chExt cx="776160" cy="193680"/>
            </a:xfrm>
          </p:grpSpPr>
          <p:sp>
            <p:nvSpPr>
              <p:cNvPr id="141" name=""/>
              <p:cNvSpPr/>
              <p:nvPr/>
            </p:nvSpPr>
            <p:spPr>
              <a:xfrm>
                <a:off x="26067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193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305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31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42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78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9064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036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162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273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399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511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637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748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8748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004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130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242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368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479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605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7172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861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72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098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1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336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448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574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6856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829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941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067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193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304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30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424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672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798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924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035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61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273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399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5108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64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766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892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130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241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367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4792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608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734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860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972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098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210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336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4476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3591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703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06760" y="292428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06760" y="292428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067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193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305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31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542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668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678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69064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36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162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73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399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511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37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8748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004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130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242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368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479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5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7172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861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972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098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21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336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448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574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6856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829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941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067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193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304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30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5424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672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98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924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035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161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273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3992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108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640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766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892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004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130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2416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7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7920" y="292428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608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7348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8608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9724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0984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100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3360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44760" y="292428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59160" y="292428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70320" y="292428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606760" y="2924280"/>
              <a:ext cx="774720" cy="191880"/>
            </a:xfrm>
            <a:custGeom>
              <a:avLst/>
              <a:gdLst/>
              <a:ahLst/>
              <a:rect l="l" t="t" r="r" b="b"/>
              <a:pathLst>
                <a:path w="488" h="121">
                  <a:moveTo>
                    <a:pt x="0" y="60"/>
                  </a:moveTo>
                  <a:lnTo>
                    <a:pt x="97" y="121"/>
                  </a:lnTo>
                  <a:lnTo>
                    <a:pt x="97" y="80"/>
                  </a:lnTo>
                  <a:lnTo>
                    <a:pt x="390" y="80"/>
                  </a:lnTo>
                  <a:lnTo>
                    <a:pt x="390" y="121"/>
                  </a:lnTo>
                  <a:lnTo>
                    <a:pt x="488" y="60"/>
                  </a:lnTo>
                  <a:lnTo>
                    <a:pt x="390" y="0"/>
                  </a:lnTo>
                  <a:lnTo>
                    <a:pt x="390" y="40"/>
                  </a:lnTo>
                  <a:lnTo>
                    <a:pt x="97" y="40"/>
                  </a:lnTo>
                  <a:lnTo>
                    <a:pt x="97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606760" y="4154400"/>
            <a:ext cx="776160" cy="193680"/>
            <a:chOff x="2606760" y="4154400"/>
            <a:chExt cx="776160" cy="193680"/>
          </a:xfrm>
        </p:grpSpPr>
        <p:grpSp>
          <p:nvGrpSpPr>
            <p:cNvPr id="273" name=""/>
            <p:cNvGrpSpPr/>
            <p:nvPr/>
          </p:nvGrpSpPr>
          <p:grpSpPr>
            <a:xfrm>
              <a:off x="2606760" y="4154400"/>
              <a:ext cx="776160" cy="193680"/>
              <a:chOff x="2606760" y="4154400"/>
              <a:chExt cx="776160" cy="193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6067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93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305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431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42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68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62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273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399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11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637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748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8748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004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130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242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368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479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605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7172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861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972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098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1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48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574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6856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829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941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67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193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304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430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5424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672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798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924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035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161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73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399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5108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64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766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892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004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130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241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367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4792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608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734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860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972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098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10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3336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4476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591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703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06760" y="4154400"/>
                <a:ext cx="774720" cy="19224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1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1"/>
                    </a:lnTo>
                    <a:lnTo>
                      <a:pt x="390" y="0"/>
                    </a:lnTo>
                    <a:lnTo>
                      <a:pt x="390" y="41"/>
                    </a:lnTo>
                    <a:lnTo>
                      <a:pt x="97" y="41"/>
                    </a:lnTo>
                    <a:lnTo>
                      <a:pt x="97" y="0"/>
                    </a:lnTo>
                    <a:lnTo>
                      <a:pt x="0" y="61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606760" y="4154400"/>
                <a:ext cx="774720" cy="19224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1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1"/>
                    </a:lnTo>
                    <a:lnTo>
                      <a:pt x="390" y="0"/>
                    </a:lnTo>
                    <a:lnTo>
                      <a:pt x="390" y="41"/>
                    </a:lnTo>
                    <a:lnTo>
                      <a:pt x="97" y="41"/>
                    </a:lnTo>
                    <a:lnTo>
                      <a:pt x="97" y="0"/>
                    </a:lnTo>
                    <a:lnTo>
                      <a:pt x="0" y="6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067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193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305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431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542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668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78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9064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036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162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273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399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511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637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748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8748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004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130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242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68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479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605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172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861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72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098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21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336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48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574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6856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829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941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067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193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304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30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5424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672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798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924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035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61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273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3992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5108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640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766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92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004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30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16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7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47920" y="4154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608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348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8608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9724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0984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2100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3360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44760" y="4154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59160" y="4154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70320" y="4154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606760" y="4154400"/>
              <a:ext cx="774720" cy="192240"/>
            </a:xfrm>
            <a:custGeom>
              <a:avLst/>
              <a:gdLst/>
              <a:ahLst/>
              <a:rect l="l" t="t" r="r" b="b"/>
              <a:pathLst>
                <a:path w="488" h="121">
                  <a:moveTo>
                    <a:pt x="0" y="61"/>
                  </a:moveTo>
                  <a:lnTo>
                    <a:pt x="97" y="121"/>
                  </a:lnTo>
                  <a:lnTo>
                    <a:pt x="97" y="80"/>
                  </a:lnTo>
                  <a:lnTo>
                    <a:pt x="390" y="80"/>
                  </a:lnTo>
                  <a:lnTo>
                    <a:pt x="390" y="121"/>
                  </a:lnTo>
                  <a:lnTo>
                    <a:pt x="488" y="61"/>
                  </a:lnTo>
                  <a:lnTo>
                    <a:pt x="390" y="0"/>
                  </a:lnTo>
                  <a:lnTo>
                    <a:pt x="390" y="41"/>
                  </a:lnTo>
                  <a:lnTo>
                    <a:pt x="97" y="41"/>
                  </a:lnTo>
                  <a:lnTo>
                    <a:pt x="97" y="0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346040" y="35244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78"/>
                </a:moveTo>
                <a:lnTo>
                  <a:pt x="39" y="78"/>
                </a:lnTo>
                <a:lnTo>
                  <a:pt x="39" y="0"/>
                </a:lnTo>
                <a:lnTo>
                  <a:pt x="84" y="0"/>
                </a:lnTo>
                <a:lnTo>
                  <a:pt x="84" y="78"/>
                </a:lnTo>
                <a:lnTo>
                  <a:pt x="122" y="78"/>
                </a:lnTo>
                <a:lnTo>
                  <a:pt x="61" y="122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46040" y="48960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79"/>
                </a:moveTo>
                <a:lnTo>
                  <a:pt x="39" y="79"/>
                </a:lnTo>
                <a:lnTo>
                  <a:pt x="39" y="0"/>
                </a:lnTo>
                <a:lnTo>
                  <a:pt x="84" y="0"/>
                </a:lnTo>
                <a:lnTo>
                  <a:pt x="84" y="79"/>
                </a:lnTo>
                <a:lnTo>
                  <a:pt x="122" y="79"/>
                </a:lnTo>
                <a:lnTo>
                  <a:pt x="61" y="122"/>
                </a:lnTo>
                <a:lnTo>
                  <a:pt x="0" y="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47040" y="48960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79"/>
                </a:moveTo>
                <a:lnTo>
                  <a:pt x="38" y="79"/>
                </a:lnTo>
                <a:lnTo>
                  <a:pt x="38" y="0"/>
                </a:lnTo>
                <a:lnTo>
                  <a:pt x="83" y="0"/>
                </a:lnTo>
                <a:lnTo>
                  <a:pt x="83" y="79"/>
                </a:lnTo>
                <a:lnTo>
                  <a:pt x="122" y="79"/>
                </a:lnTo>
                <a:lnTo>
                  <a:pt x="61" y="122"/>
                </a:lnTo>
                <a:lnTo>
                  <a:pt x="0" y="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47040" y="35305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78"/>
                </a:moveTo>
                <a:lnTo>
                  <a:pt x="38" y="78"/>
                </a:lnTo>
                <a:lnTo>
                  <a:pt x="38" y="0"/>
                </a:lnTo>
                <a:lnTo>
                  <a:pt x="83" y="0"/>
                </a:lnTo>
                <a:lnTo>
                  <a:pt x="83" y="78"/>
                </a:lnTo>
                <a:lnTo>
                  <a:pt x="122" y="78"/>
                </a:lnTo>
                <a:lnTo>
                  <a:pt x="61" y="122"/>
                </a:lnTo>
                <a:lnTo>
                  <a:pt x="0" y="7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705640" y="2946240"/>
            <a:ext cx="776160" cy="193680"/>
            <a:chOff x="5705640" y="2946240"/>
            <a:chExt cx="776160" cy="193680"/>
          </a:xfrm>
        </p:grpSpPr>
        <p:grpSp>
          <p:nvGrpSpPr>
            <p:cNvPr id="410" name=""/>
            <p:cNvGrpSpPr/>
            <p:nvPr/>
          </p:nvGrpSpPr>
          <p:grpSpPr>
            <a:xfrm>
              <a:off x="5705640" y="2946240"/>
              <a:ext cx="776160" cy="193680"/>
              <a:chOff x="5705640" y="2946240"/>
              <a:chExt cx="776160" cy="193680"/>
            </a:xfrm>
          </p:grpSpPr>
          <p:sp>
            <p:nvSpPr>
              <p:cNvPr id="411" name=""/>
              <p:cNvSpPr/>
              <p:nvPr/>
            </p:nvSpPr>
            <p:spPr>
              <a:xfrm>
                <a:off x="57056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182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294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420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531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657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76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78952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024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150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262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88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500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26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737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8636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993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19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230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9356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468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594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97060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850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961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0087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19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325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436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562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6744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818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30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056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182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293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419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5312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660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786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912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024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150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262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388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996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62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755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881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992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18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230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356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4680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597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723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849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961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087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198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324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4364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580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692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05640" y="294624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05640" y="294624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056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82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294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420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531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657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76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8952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024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150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262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388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500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26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737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8636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993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119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230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356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468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594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7060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850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961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087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9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325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36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562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6744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818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930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1056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182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293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419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5312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660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786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912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024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150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262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23880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4996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629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755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881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992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118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2304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356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346800" y="294624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97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36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8496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9612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40872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1988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3248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43640" y="294624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458040" y="294624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69200" y="294624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705640" y="2946240"/>
              <a:ext cx="774720" cy="191880"/>
            </a:xfrm>
            <a:custGeom>
              <a:avLst/>
              <a:gdLst/>
              <a:ahLst/>
              <a:rect l="l" t="t" r="r" b="b"/>
              <a:pathLst>
                <a:path w="488" h="121">
                  <a:moveTo>
                    <a:pt x="0" y="60"/>
                  </a:moveTo>
                  <a:lnTo>
                    <a:pt x="97" y="121"/>
                  </a:lnTo>
                  <a:lnTo>
                    <a:pt x="97" y="80"/>
                  </a:lnTo>
                  <a:lnTo>
                    <a:pt x="390" y="80"/>
                  </a:lnTo>
                  <a:lnTo>
                    <a:pt x="390" y="121"/>
                  </a:lnTo>
                  <a:lnTo>
                    <a:pt x="488" y="60"/>
                  </a:lnTo>
                  <a:lnTo>
                    <a:pt x="390" y="0"/>
                  </a:lnTo>
                  <a:lnTo>
                    <a:pt x="390" y="40"/>
                  </a:lnTo>
                  <a:lnTo>
                    <a:pt x="97" y="40"/>
                  </a:lnTo>
                  <a:lnTo>
                    <a:pt x="97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695920" y="4149720"/>
            <a:ext cx="776160" cy="193680"/>
            <a:chOff x="5695920" y="4149720"/>
            <a:chExt cx="776160" cy="193680"/>
          </a:xfrm>
        </p:grpSpPr>
        <p:grpSp>
          <p:nvGrpSpPr>
            <p:cNvPr id="543" name=""/>
            <p:cNvGrpSpPr/>
            <p:nvPr/>
          </p:nvGrpSpPr>
          <p:grpSpPr>
            <a:xfrm>
              <a:off x="5695920" y="4149720"/>
              <a:ext cx="776160" cy="193680"/>
              <a:chOff x="5695920" y="4149720"/>
              <a:chExt cx="776160" cy="193680"/>
            </a:xfrm>
          </p:grpSpPr>
          <p:sp>
            <p:nvSpPr>
              <p:cNvPr id="544" name=""/>
              <p:cNvSpPr/>
              <p:nvPr/>
            </p:nvSpPr>
            <p:spPr>
              <a:xfrm>
                <a:off x="56959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85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196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322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434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560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67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7980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927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053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165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291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02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528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640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896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22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133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9259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9371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9497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96088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752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864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9990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10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228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339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465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772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21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832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958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084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196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322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4340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563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1689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815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927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053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164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290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024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53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658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2784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895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021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133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3259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33708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3500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3626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752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864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3990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101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27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3392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483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4594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695920" y="414972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95920" y="414972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959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7085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96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7322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7434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560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67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7980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927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053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165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291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402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528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640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87664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896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9022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33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259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9371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497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96088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9752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864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9990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10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0228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339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465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05772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0721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832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958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084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196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322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14340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1563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689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1815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927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053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164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2908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024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532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658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784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895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021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1332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259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37080" y="414972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500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36264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7524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8640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39900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41016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2276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33920" y="414972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48320" y="414972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59480" y="414972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5695920" y="4149720"/>
              <a:ext cx="774720" cy="191880"/>
            </a:xfrm>
            <a:custGeom>
              <a:avLst/>
              <a:gdLst/>
              <a:ahLst/>
              <a:rect l="l" t="t" r="r" b="b"/>
              <a:pathLst>
                <a:path w="488" h="121">
                  <a:moveTo>
                    <a:pt x="0" y="60"/>
                  </a:moveTo>
                  <a:lnTo>
                    <a:pt x="97" y="121"/>
                  </a:lnTo>
                  <a:lnTo>
                    <a:pt x="97" y="80"/>
                  </a:lnTo>
                  <a:lnTo>
                    <a:pt x="390" y="80"/>
                  </a:lnTo>
                  <a:lnTo>
                    <a:pt x="390" y="121"/>
                  </a:lnTo>
                  <a:lnTo>
                    <a:pt x="488" y="60"/>
                  </a:lnTo>
                  <a:lnTo>
                    <a:pt x="390" y="0"/>
                  </a:lnTo>
                  <a:lnTo>
                    <a:pt x="390" y="40"/>
                  </a:lnTo>
                  <a:lnTo>
                    <a:pt x="97" y="40"/>
                  </a:lnTo>
                  <a:lnTo>
                    <a:pt x="97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705640" y="5540400"/>
            <a:ext cx="776160" cy="193680"/>
            <a:chOff x="5705640" y="5540400"/>
            <a:chExt cx="776160" cy="193680"/>
          </a:xfrm>
        </p:grpSpPr>
        <p:grpSp>
          <p:nvGrpSpPr>
            <p:cNvPr id="676" name=""/>
            <p:cNvGrpSpPr/>
            <p:nvPr/>
          </p:nvGrpSpPr>
          <p:grpSpPr>
            <a:xfrm>
              <a:off x="5705640" y="5540400"/>
              <a:ext cx="776160" cy="193680"/>
              <a:chOff x="5705640" y="5540400"/>
              <a:chExt cx="776160" cy="193680"/>
            </a:xfrm>
          </p:grpSpPr>
          <p:sp>
            <p:nvSpPr>
              <p:cNvPr id="677" name=""/>
              <p:cNvSpPr/>
              <p:nvPr/>
            </p:nvSpPr>
            <p:spPr>
              <a:xfrm>
                <a:off x="57056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7182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294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7420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531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657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76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8952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024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150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262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388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500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26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737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8636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993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119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230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356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468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9594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7060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850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961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087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19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325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436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562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6744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818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6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182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293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419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5312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660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786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912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024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2150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2262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2388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24996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262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755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881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2992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3118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230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3356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34680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3597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3723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3849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3961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087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4198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4324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44364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580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4692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05640" y="554040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05640" y="5540400"/>
                <a:ext cx="774720" cy="191880"/>
              </a:xfrm>
              <a:custGeom>
                <a:avLst/>
                <a:gdLst/>
                <a:ahLst/>
                <a:rect l="l" t="t" r="r" b="b"/>
                <a:pathLst>
                  <a:path w="488" h="121">
                    <a:moveTo>
                      <a:pt x="0" y="60"/>
                    </a:moveTo>
                    <a:lnTo>
                      <a:pt x="97" y="121"/>
                    </a:lnTo>
                    <a:lnTo>
                      <a:pt x="97" y="80"/>
                    </a:lnTo>
                    <a:lnTo>
                      <a:pt x="390" y="80"/>
                    </a:lnTo>
                    <a:lnTo>
                      <a:pt x="390" y="121"/>
                    </a:lnTo>
                    <a:lnTo>
                      <a:pt x="488" y="60"/>
                    </a:lnTo>
                    <a:lnTo>
                      <a:pt x="390" y="0"/>
                    </a:lnTo>
                    <a:lnTo>
                      <a:pt x="390" y="40"/>
                    </a:lnTo>
                    <a:lnTo>
                      <a:pt x="97" y="4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7056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7182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294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420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531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657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76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8952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024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150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262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388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500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26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737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8636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993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9119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9230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9356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9468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594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97060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9850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961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0087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019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0325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0436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562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6744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0818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30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056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1182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1293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1419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5312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1660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786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1912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024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2150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2262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3880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4996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2629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755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2881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992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3118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2304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356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346800" y="5540400"/>
                <a:ext cx="129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597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37236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38496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39612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872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1988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3248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43640" y="5540400"/>
                <a:ext cx="144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458040" y="5540400"/>
                <a:ext cx="11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469200" y="5540400"/>
                <a:ext cx="12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5705640" y="5540400"/>
              <a:ext cx="774720" cy="191880"/>
            </a:xfrm>
            <a:custGeom>
              <a:avLst/>
              <a:gdLst/>
              <a:ahLst/>
              <a:rect l="l" t="t" r="r" b="b"/>
              <a:pathLst>
                <a:path w="488" h="121">
                  <a:moveTo>
                    <a:pt x="0" y="60"/>
                  </a:moveTo>
                  <a:lnTo>
                    <a:pt x="97" y="121"/>
                  </a:lnTo>
                  <a:lnTo>
                    <a:pt x="97" y="80"/>
                  </a:lnTo>
                  <a:lnTo>
                    <a:pt x="390" y="80"/>
                  </a:lnTo>
                  <a:lnTo>
                    <a:pt x="390" y="121"/>
                  </a:lnTo>
                  <a:lnTo>
                    <a:pt x="488" y="60"/>
                  </a:lnTo>
                  <a:lnTo>
                    <a:pt x="390" y="0"/>
                  </a:lnTo>
                  <a:lnTo>
                    <a:pt x="390" y="40"/>
                  </a:lnTo>
                  <a:lnTo>
                    <a:pt x="97" y="40"/>
                  </a:lnTo>
                  <a:lnTo>
                    <a:pt x="97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DA6F-ECDA-4E79-9B7E-C9F71C735B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аспределение финансирования по приоритетам срокам реализации мероприятий</a:t>
            </a:r>
            <a:endParaRPr b="1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536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53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179280" y="1052640"/>
          <a:ext cx="8785080" cy="5184360"/>
        </p:xfrm>
        <a:graphic>
          <a:graphicData uri="http://schemas.openxmlformats.org/drawingml/2006/table">
            <a:tbl>
              <a:tblPr/>
              <a:tblGrid>
                <a:gridCol w="458640"/>
                <a:gridCol w="2672640"/>
                <a:gridCol w="962640"/>
                <a:gridCol w="1029600"/>
                <a:gridCol w="869400"/>
                <a:gridCol w="1040400"/>
                <a:gridCol w="1087560"/>
                <a:gridCol w="66420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 приоритетные 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эффективности использования природных ресурсов терри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оизводственного потенциала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бытовых условий проживани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74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5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6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1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0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социальных условий  и образа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йшее развитие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3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2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6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9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71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6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044E-8E28-410E-B58E-8B171A9682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Эффективность инвестиционных мероприятий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611280" y="1773360"/>
          <a:ext cx="7772040" cy="3020040"/>
        </p:xfrm>
        <a:graphic>
          <a:graphicData uri="http://schemas.openxmlformats.org/drawingml/2006/table">
            <a:tbl>
              <a:tblPr/>
              <a:tblGrid>
                <a:gridCol w="4044600"/>
                <a:gridCol w="929160"/>
                <a:gridCol w="659880"/>
                <a:gridCol w="694080"/>
                <a:gridCol w="786600"/>
                <a:gridCol w="65772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ыль участников Программы,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реализации продукции по проектам,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создаваемых рабочих мест,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F38B-1DE3-4050-ACA7-1102F94F3B8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Обеспечение базовых условий для разработки Программы 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0" name=""/>
          <p:cNvSpPr/>
          <p:nvPr/>
        </p:nvSpPr>
        <p:spPr>
          <a:xfrm>
            <a:off x="395280" y="14130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1. Принятие  решения о разработке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0880" y="2178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2. Формирование рабочих органов по подготовке и реализаци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42920" y="285264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Координационного 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42920" y="3357720"/>
            <a:ext cx="792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Рабоче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8360" y="386064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3. Выбор организации - консультанта и заключение с ней муниципального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24000" y="479736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4. Утверждение графика выполнения работ и осуществление текущего контроля за его выпол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2238-D260-4B18-8C1A-D4DB00B592B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Этапы разработки Программы социально-экономического развития МО «Каргасокский район»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898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Проведение анализа состояния основных жизнедеятельности район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2. Разработка Концепции социально-экономического развития на 2007-2020 г.г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3. Разработка Комплексной программы социально-экономического</a:t>
            </a: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развития на 2007-2010 г.г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F50F-DFF2-48AC-8C09-C960ED3CFB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Основные задачи анализа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0" name=""/>
          <p:cNvSpPr/>
          <p:nvPr/>
        </p:nvSpPr>
        <p:spPr>
          <a:xfrm>
            <a:off x="380880" y="1219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1. Изучение стартовых условий и исходных предпосылок социально-экономического развития муниципального района, в т.ч. в разрезе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0880" y="2282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2. Сравнительная оценка уровня социально-экономического развития муниципального района, позволяющая </a:t>
            </a:r>
            <a:r>
              <a:rPr b="1" sz="1800" spc="-1" strike="noStrike">
                <a:solidFill>
                  <a:srgbClr val="000066"/>
                </a:solidFill>
                <a:latin typeface="Century Gothic"/>
              </a:rPr>
              <a:t>определить место муниципального района в социально-экономическом развити</a:t>
            </a:r>
            <a:r>
              <a:rPr b="1" lang="ru-RU" sz="1800" spc="-1" strike="noStrike">
                <a:solidFill>
                  <a:srgbClr val="000066"/>
                </a:solidFill>
                <a:latin typeface="Century Gothic"/>
              </a:rPr>
              <a:t>и</a:t>
            </a:r>
            <a:r>
              <a:rPr b="1" sz="1800" spc="-1" strike="noStrike">
                <a:solidFill>
                  <a:srgbClr val="000066"/>
                </a:solidFill>
                <a:latin typeface="Century Gothic"/>
              </a:rPr>
              <a:t>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36259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4000" y="3645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3. Выявление проблем развития муниципального района и выбор наиболее актуальных, в том числе в разрезе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4000" y="4437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4. Формирование базы для обсуждения на круглых столах, общественных слушаниях, сходах граждан поселений, в средствах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5F31-F00D-4E79-B29A-15947BE09A0C}" type="slidenum">
              <a:t>5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Концепция социально-экономического развития 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484280"/>
            <a:ext cx="86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1. Формулирует стратегическую долговременную цель развития района и определяет основные приорит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0920" y="23493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2. Производит увязку целей развития муниципального района с целями и задачами развития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79280" y="314172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3. Даёт комплексную оценку возможности использования ресурсов и потенциала муниципального района в решении поставленных целей и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0920" y="4149720"/>
            <a:ext cx="86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4. Обосновывает возможности и способы участия  всех заинтересованных сторон в перспективном разви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-1692360" y="479736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0EB4-C986-4A70-B2FC-3C484953F2F7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мплексная п</a:t>
            </a: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рограмма   социально – экономического    развития   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Является   основным  документом,  определяющим  для    органов   власти,   бизнес – сообщества   и   населения   цели развития МО на среднесрочный период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Содержит информацию об  этапах,  путях достижения   этих стратегических   целей    и  ресурсах,  которые  необходимо   привлечь   из различных источников для их достижения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Описывает формы   и   методы   организации деятельности по выполнению   поставленных   стратегических   целей   и   задач    на  плановый  период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Выступает   базовым документом  для  формирования  органами   представительной   власти   и  населения  критериев для оценки  эффективности   деятельности    всех   звеньев   исполнительной   власти   муниципального   образования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777777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entury Gothic"/>
              </a:rPr>
              <a:t>Является основой при обосновании необходимости получения финансовых средств из вышестоящих бюджетов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19C4-8F10-4774-8BCF-BAE01546B2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Структура</a:t>
            </a: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entury Gothic"/>
              </a:rPr>
              <a:t>анализа социально-экономического развития МО «Каргасокский  район»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6" name=""/>
          <p:cNvSpPr/>
          <p:nvPr/>
        </p:nvSpPr>
        <p:spPr>
          <a:xfrm>
            <a:off x="152280" y="1371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1. Общая информация о муниципальном рай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1700280"/>
            <a:ext cx="82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2. Ресурс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79280" y="2060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3. Анализ основных отрасле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9280" y="24210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4. Качество жизн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9280" y="27813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5. Оценка действующих мер по улучшению социально-эконом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положения муниципального района,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9280" y="3789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6. Основные проблемы социально-экономического развития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9280" y="450864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7. Комплексная оценка социально-экономического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При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366D-D86B-494F-A22E-B5CE1A88557C}" type="slidenum">
              <a:t>8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сходные факторы, определяющие условия развития Каргасокского района</a:t>
            </a: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685800" y="1200240"/>
          <a:ext cx="7772400" cy="5052960"/>
        </p:xfrm>
        <a:graphic>
          <a:graphicData uri="http://schemas.openxmlformats.org/drawingml/2006/table">
            <a:tbl>
              <a:tblPr/>
              <a:tblGrid>
                <a:gridCol w="4076640"/>
                <a:gridCol w="369576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Century Gothic"/>
                        </a:rPr>
                        <a:t>(+) Сильные стороны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Century Gothic"/>
                        </a:rPr>
                        <a:t>(-) Слабые сторо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гатые лесные ресурсы: древесина, дикоросы,  животный ми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громное количество водоёмов, богатых рыбой, и подземных в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ие площади нетронутых человеком природных экосисте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ие запасы нефти, газа, торф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формировавшийся и  растущий нефтегазовый комплекс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огочисленность малого бизнес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ий уровень доходов значительной части насе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витость культурной жи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носительно высокая доля жителей КМНС, эволюционно адаптированных к местным природным услови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личие автомобильного, авиационного, водного и  трубопроводного видов транспор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ровые климатические усло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болоченность большей части террито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сконтрольность по использованию некоторых видов природных ресурсо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сутствие действующих производств в большинстве населённых пунктов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начительная разбросанность населённых пунктов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обходимость снабжения удалённых посёлков   электроэнергией от дизельных станц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ая себестоимость производства услуг ЖК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рицательное миграционное сальдо, отток молодёж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высокий образовательный уровень  насе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777777"/>
                        </a:buClr>
                        <a:buSzPct val="110000"/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сутствие подразделений Администрации, целенаправленно работающих на развитие территор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EFB2-B84C-4BEF-AE2B-0A5EA0CB80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6:20:18Z</dcterms:created>
  <dc:creator>Vladimirova</dc:creator>
  <dc:description/>
  <dc:language>en-US</dc:language>
  <cp:lastModifiedBy>В.М.</cp:lastModifiedBy>
  <cp:lastPrinted>2006-06-21T05:08:04Z</cp:lastPrinted>
  <dcterms:modified xsi:type="dcterms:W3CDTF">2007-06-06T01:37:27Z</dcterms:modified>
  <cp:revision>876</cp:revision>
  <dc:subject/>
  <dc:title>Другие социальные проблемы </dc:title>
</cp:coreProperties>
</file>